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8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petition Statement and the Math Library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8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5920" y="1339920"/>
            <a:ext cx="366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68600"/>
            <a:ext cx="8229600" cy="2047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ing a counter-controlled loop with a floating-poi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use integer values to control counter-controlled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55840" y="1600200"/>
            <a:ext cx="623232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4360" y="1278000"/>
            <a:ext cx="56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eti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1 to 100 in increments of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5480" y="3429000"/>
            <a:ext cx="4086000" cy="36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25909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100 to 1 in decrements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152960" cy="32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41911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7 to 77 in increments of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4971960"/>
            <a:ext cx="44956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5" name=""/>
          <p:cNvSpPr/>
          <p:nvPr/>
        </p:nvSpPr>
        <p:spPr>
          <a:xfrm>
            <a:off x="1121400" y="2619720"/>
            <a:ext cx="763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Prompt the user for and input the principal, interest rate and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Display a table hea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For each year, starting at 1 and ending with the number of years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Calculate and display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Calculate and display the current value of the investm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5960" y="1752480"/>
            <a:ext cx="607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0240" y="2295360"/>
            <a:ext cx="6240240" cy="197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4360" y="1676520"/>
            <a:ext cx="83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store the principal, interest rate and investment d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66688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29718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2471760"/>
            <a:ext cx="6240600" cy="2781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9840" y="1623960"/>
            <a:ext cx="695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principal,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nvestment d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048120"/>
            <a:ext cx="2210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he principal, interest rate and investmen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5812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35812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ntere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1873080"/>
            <a:ext cx="6240600" cy="163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eam manipulators to display a tabl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2680" y="1371600"/>
            <a:ext cx="38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table he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209680"/>
            <a:ext cx="1295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able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146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4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46200" y="1949400"/>
            <a:ext cx="6240600" cy="1486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eam manipulators to format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280" y="1547640"/>
            <a:ext cx="45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floating-point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209680"/>
            <a:ext cx="19814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floating-point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8280" y="1706400"/>
            <a:ext cx="6240600" cy="1971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declares all essential items of counter-controlled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1040" y="1309680"/>
            <a:ext cx="403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20968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362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46200" y="2035080"/>
            <a:ext cx="6240600" cy="1314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Standard Math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essary for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s exponentiation (there is no exponential operator in 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includes functions for square roots and trigonometry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000" y="1638360"/>
            <a:ext cx="60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ndard library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43828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59092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0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statements repeatedly wit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etition stat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math library to execute common mathematical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8840" y="1787400"/>
            <a:ext cx="6240240" cy="1809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argument is value to be raised to a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argument specifies power to which the first argument will be rais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640" y="1295280"/>
            <a:ext cx="71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mount on deposit after specified number of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038320"/>
            <a:ext cx="23623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alculate the amount on deposit after the specified number of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2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22520" y="243828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2920" y="1623960"/>
            <a:ext cx="58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amount on deposit for each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amount on deposit for each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1240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1120" y="1623960"/>
            <a:ext cx="41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Calculator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13716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447920" y="1142640"/>
            <a:ext cx="5486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9092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81280" y="274320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/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Calculator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1932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for and input the principal, rate and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05320" y="762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137124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297180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table header and format floating-poi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885840" y="297144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733920" y="32767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1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2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858000" y="304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Calculator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371600"/>
            <a:ext cx="28191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to calculate the amount on deposit and display it in tabula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72000" y="533520"/>
            <a:ext cx="1447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5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9600" y="1704960"/>
            <a:ext cx="7983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2600" y="1776240"/>
            <a:ext cx="64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es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00240" y="1962000"/>
            <a:ext cx="5610240" cy="299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7360" y="1395360"/>
            <a:ext cx="591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74320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result in tabula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0481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elements of 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of the control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value of the control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ment (or decrement) by which the control variable is modified during each iteration of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ndition that tests for the final value of the control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-119880" y="5143680"/>
            <a:ext cx="72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counter-controlled repetition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7632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s control variable and initializes its value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505320" y="151920"/>
            <a:ext cx="2590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762120"/>
            <a:ext cx="3276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 that tests whether value of control variable is less than or equal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eaning tha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final value for which the condition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86000" y="1295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997440"/>
            <a:ext cx="4800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each iteration of th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36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all elements of counter-controlled repetition in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8600" y="419112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segment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that demonstrates the for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5:34:00Z</dcterms:created>
  <dc:creator>Eric Winokur</dc:creator>
  <dc:description/>
  <dc:language>en-US</dc:language>
  <cp:lastModifiedBy>Pearson Education</cp:lastModifiedBy>
  <dcterms:modified xsi:type="dcterms:W3CDTF">2004-10-11T14:11:51Z</dcterms:modified>
  <cp:revision>89</cp:revision>
  <dc:subject/>
  <dc:title>Tutorial 8 - Interest Calculator Application: Introducing the for Repetition Statement and the Math Library</dc:title>
</cp:coreProperties>
</file>